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1DC1D5-5B3B-471C-B7B7-2AB6A1C70B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BFB06-D96A-4222-A0C8-48A14F713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B208AF-77C0-4CCB-BC34-02CA89C100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4B64BB-77C1-4BA2-9D88-A7CD0F26CA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7D30B-7137-4AC3-B5D7-4FF800DF2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6D003-BE6B-4E4B-8F85-DCF7BFFAC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55F87-8BE9-40D9-ADF1-7A3420F4D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EE366-7D29-4628-8FC7-C93B59118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EFD34-97A9-48D3-9EDB-C1520A70B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5FB05-E19C-4D0F-8309-28B668B61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1D74C-2354-4F4E-8AC0-1526A2B0A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4C0F8-B299-405A-926A-C622172BC2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00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08722-701A-4F07-AD02-9A177D1F7E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00ff"/>
            </a:gs>
            <a:gs pos="100000">
              <a:srgbClr val="ffffff"/>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JACKSON"/>
              </a:rPr>
              <a:t>Freedmen’s Bureau, Black Codes, and Override</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00ff"/>
            </a:gs>
            <a:gs pos="100000">
              <a:srgbClr val="ffffff"/>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04560" y="152280"/>
            <a:ext cx="8839080" cy="64771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Reasons why Freedmen’s Bureau ended</a:t>
            </a:r>
            <a:endParaRPr b="0" lang="en-US" sz="32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ublican Revolt’s bega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did not vote for Republican candidates anymor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nesty Act – in May 1872 Congress passed this act which gave the southerner's all their rights. Like voting and being able to hold office. As long as they supported the Democratic Part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cratic Party began to claim power once more</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66"/>
                </a:solidFill>
                <a:latin typeface="Arial"/>
              </a:rPr>
              <a:t>All of these signs led to the “giving up” on the idea of Reconstruction.</a:t>
            </a:r>
            <a:r>
              <a:rPr b="0" lang="en-US" sz="4000" spc="-1" strike="noStrike">
                <a:solidFill>
                  <a:srgbClr val="ff33cc"/>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00ff"/>
            </a:gs>
            <a:gs pos="100000">
              <a:srgbClr val="ffffff"/>
            </a:gs>
          </a:gsLst>
          <a:lin ang="135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Minnie"/>
              </a:rPr>
              <a:t>Freedmen’s Bureau</a:t>
            </a:r>
            <a:r>
              <a:rPr b="0" lang="en-US" sz="5400" spc="-1" strike="noStrike">
                <a:solidFill>
                  <a:srgbClr val="000000"/>
                </a:solidFill>
                <a:latin typeface="Minnie"/>
              </a:rPr>
              <a:t>	</a:t>
            </a:r>
            <a:endParaRPr b="0" lang="en-US" sz="5400" spc="-1" strike="noStrike">
              <a:solidFill>
                <a:srgbClr val="000000"/>
              </a:solidFill>
              <a:latin typeface="Arial"/>
            </a:endParaRPr>
          </a:p>
        </p:txBody>
      </p:sp>
      <p:sp>
        <p:nvSpPr>
          <p:cNvPr id="43" name="PlaceHolder 2"/>
          <p:cNvSpPr>
            <a:spLocks noGrp="1"/>
          </p:cNvSpPr>
          <p:nvPr>
            <p:ph/>
          </p:nvPr>
        </p:nvSpPr>
        <p:spPr>
          <a:xfrm>
            <a:off x="228600" y="2332080"/>
            <a:ext cx="8229600" cy="452592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Government agency which helped former slaves during the reconstruction period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00ff"/>
            </a:gs>
            <a:gs pos="100000">
              <a:srgbClr val="ffffff"/>
            </a:gs>
          </a:gsLst>
          <a:lin ang="135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Black Codes </a:t>
            </a:r>
            <a:endParaRPr b="0" lang="en-US" sz="80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ws that were passed by the states in the south. They limited the rights of African Americans after the Civil Wa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00ff"/>
            </a:gs>
            <a:gs pos="100000">
              <a:srgbClr val="ffffff"/>
            </a:gs>
          </a:gsLst>
          <a:lin ang="135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Override</a:t>
            </a:r>
            <a:endParaRPr b="0" lang="en-US" sz="8000" spc="-1" strike="noStrike">
              <a:solidFill>
                <a:srgbClr val="000000"/>
              </a:solidFill>
              <a:latin typeface="Arial"/>
            </a:endParaRPr>
          </a:p>
        </p:txBody>
      </p:sp>
      <p:sp>
        <p:nvSpPr>
          <p:cNvPr id="47" name="PlaceHolder 2"/>
          <p:cNvSpPr>
            <a:spLocks noGrp="1"/>
          </p:cNvSpPr>
          <p:nvPr>
            <p:ph/>
          </p:nvPr>
        </p:nvSpPr>
        <p:spPr>
          <a:xfrm>
            <a:off x="533520" y="233208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To Overrule, as when Congress overrules a presidential veto (p.257 txt boo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00ff"/>
            </a:gs>
            <a:gs pos="100000">
              <a:srgbClr val="ffffff"/>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ureau gave food and clothes to former slaves and they tried to find jobs for the freedmen. The Bureau helped poor whites too. This organization helped more than one million peop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00ff"/>
            </a:gs>
            <a:gs pos="100000">
              <a:srgbClr val="ffffff"/>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eedmen’s Bureau and Black Codes</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building the Sou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00ff"/>
            </a:gs>
            <a:gs pos="100000">
              <a:srgbClr val="ffffff"/>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black Code granted some rights like African Americans being able to marry one another legally. And they were allowed to own small amounts of property. The Black codes didn’t allow freedmen the right to vote or to own guns, or serve on juries. Without contracts when working they could be arrested and would be forced to work on planta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00ff"/>
            </a:gs>
            <a:gs pos="100000">
              <a:srgbClr val="ffffff"/>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152280"/>
            <a:ext cx="8229600" cy="59738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Freedmen’s Bureau had congress pass a bill. That agreed to help former slaves and President Lincoln signed i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00ff"/>
            </a:gs>
            <a:gs pos="100000">
              <a:srgbClr val="ffffff"/>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eemen’s Bureau 1872</a:t>
            </a:r>
            <a:endParaRPr b="0" lang="en-US" sz="4400" spc="-1" strike="noStrike">
              <a:solidFill>
                <a:srgbClr val="000000"/>
              </a:solidFill>
              <a:latin typeface="Arial"/>
            </a:endParaRPr>
          </a:p>
        </p:txBody>
      </p:sp>
      <p:sp>
        <p:nvSpPr>
          <p:cNvPr id="5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the termin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8T18:03:44Z</dcterms:created>
  <dc:creator>CFISD</dc:creator>
  <dc:description/>
  <dc:language>en-US</dc:language>
  <cp:lastModifiedBy>cfisd</cp:lastModifiedBy>
  <dcterms:modified xsi:type="dcterms:W3CDTF">2009-05-08T19:21:17Z</dcterms:modified>
  <cp:revision>17</cp:revision>
  <dc:subject/>
  <dc:title>Freedmen’s Bureau</dc:title>
</cp:coreProperties>
</file>